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C2B-A36E-4562-9EA4-D0587889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8F6-84B0-41FB-980C-2B3B4565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962-9B6D-4FFC-9C9C-FBF27820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BF3E-3E4D-4045-A303-B85709B2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28EE-50CB-41B6-8C23-3443009F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B3B-C3FD-4C27-A158-3654D3FB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40C-69FB-4AD9-BFAD-CCE75299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04E3-A77C-4956-9C71-C3014295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280-A641-4DE2-A176-66263C8A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1B2-FCF5-41BB-BCB9-AE1BBB70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6C4-46AC-4812-A96D-1B7F1CAC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C76-A7F4-44A3-B3DB-B97CBACB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C49C-6EC1-4271-8035-BCA45BEAC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250920" y="1509840"/>
            <a:ext cx="860112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09588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فظ الله له عن التحريف إلى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3"/>
          <a:stretch/>
        </p:blipFill>
        <p:spPr>
          <a:xfrm>
            <a:off x="3276720" y="836640"/>
            <a:ext cx="5651280" cy="54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4"/>
          <a:stretch/>
        </p:blipFill>
        <p:spPr>
          <a:xfrm>
            <a:off x="250920" y="2116080"/>
            <a:ext cx="8691480" cy="138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5"/>
          <a:stretch/>
        </p:blipFill>
        <p:spPr>
          <a:xfrm>
            <a:off x="1679400" y="5487840"/>
            <a:ext cx="726300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3500280"/>
            <a:ext cx="85690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 عادة المكذبين الكفر بما أتى به الرس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له تعالى يزيد اهل الكفر والضلال ضلال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لم الله السابق بما سوف يفعله المكذ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14176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هم وأنهم رسل من عند الله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72"/>
          <a:stretch/>
        </p:blipFill>
        <p:spPr>
          <a:xfrm>
            <a:off x="250920" y="1700280"/>
            <a:ext cx="86216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54320" y="4567320"/>
            <a:ext cx="31240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250920" y="1015920"/>
            <a:ext cx="864216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"/>
          <p:cNvPicPr/>
          <p:nvPr/>
        </p:nvPicPr>
        <p:blipFill>
          <a:blip r:embed="rId1"/>
          <a:stretch/>
        </p:blipFill>
        <p:spPr>
          <a:xfrm>
            <a:off x="250920" y="1671480"/>
            <a:ext cx="8642160" cy="485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0760" cy="6620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0792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قرآن الكري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4473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04972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تبديل والتحريف والزيادة والنقص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732640"/>
            <a:ext cx="482436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يل إلينا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قرآن الكريم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لام الله الحق وهو منزل غير مخلوق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فوظ بحفظ الله إلى يوم القيامة فلن يحرّف كما حرفت التوراة والإنج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583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ادة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هزاء بالرسل والكفر بما أتوا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3086280"/>
            <a:ext cx="86662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يزيد أهل الكفر والضل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ضلالاً فيعمي بصائرهم عن رؤية الحق لحكمة بالغة هو يعلم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8797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نة الله في المكذ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لاك والإذلال والتدم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179280" y="932040"/>
            <a:ext cx="8785440" cy="118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47680" y="2276640"/>
            <a:ext cx="8640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زلة من عن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زلت مصدقة للرسل عليهم الصلاة و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يها هدى للمؤمن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1372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2349360"/>
            <a:ext cx="864072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خلا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في الصغر كالنقش على الحج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وقت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مكان الحف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راءة المجودة والمنغم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قتصار على طبعة واحدة من المصحف ولا يغير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صحيح القراءة مقدّ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ية الربط مقد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ـتــكــرا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اليومي المنتظم خير من الحفظ المتقط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31T07:43:48Z</dcterms:modified>
  <cp:revision>1842</cp:revision>
  <dc:subject/>
  <dc:title>عرض تقديمي في PowerPoint</dc:title>
</cp:coreProperties>
</file>